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E015-0801-4634-9413-E4CA41C24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 http://biology.kenyon.edu/courses/biol114/KH_lecture_images/How_DNA_works/how_DNA-wor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sites/daviddisalvo/2011/11/22/whats-your-dna-wo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sciottichr.edu.glogster.com/ch-11-gl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12C-BD0F-4DE2-9A61-36B5FDBE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F3F-96C7-4BE8-9F04-138289E7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1F5-B9E7-45F1-BF49-581FA432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90E-30F1-47C4-AD75-BC5557D2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C36-B943-413E-9F7F-86E74B5D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A29-B8F0-4A89-988D-F9F560E3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2D0-0E53-4804-9A1F-BBAA5BF2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2AA-8375-489C-9D0D-5DFB48BA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C4B-1618-4635-B49F-C4787217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FA3-084E-4E1C-AFAF-44AF6591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60B-52B7-4AC8-9FA8-E41F193C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D8F-AB8A-477A-8828-63B472DD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BF3C-C894-4A86-9EB9-EE5311BCE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animation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5/concept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nauer.com/cooper5e/animation0402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lecular Basis of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y, McLeod,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or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virus:  bacteriophage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Hershey &amp; Chase experi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437316/student_view0/chapter14/animations.html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22480" y="1981080"/>
            <a:ext cx="329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&amp;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vs. pro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&amp; Fun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92480" y="19810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Miescher (186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 in the composition of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used bandages from hospitals and isolated a substance he called “nucle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5/concep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 (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what occurred in bacterial cells (keeping in mind that Griffith wouldn’t have understood the mechanism in this much detail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inauer.com/cooper5e/animation040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cp:keywords/>
  <dc:language>en-US</dc:language>
  <cp:lastModifiedBy>rubina khan</cp:lastModifiedBy>
  <dcterms:modified xsi:type="dcterms:W3CDTF">2012-04-14T02:40:38Z</dcterms:modified>
  <cp:revision>95</cp:revision>
  <dc:subject/>
  <dc:title>Molecular Genetics</dc:title>
</cp:coreProperties>
</file>